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332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6640" y="693720"/>
            <a:ext cx="461628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7332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750B2F-B0A6-4A40-A6B6-4A55B7719AD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8D0693-BBAA-4037-964A-63AD5F634D4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917640" y="4403880"/>
            <a:ext cx="56070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marL="181080" indent="-181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A06B8E-EECC-43BD-A3A1-D4037B93393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1F3857-71EE-4A74-84C7-256282739D3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65B3229-C637-4CF9-8DA2-7E0E801BAC5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06FCD8-220B-47E6-89AA-2EA83D34F78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0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259160"/>
            <a:ext cx="5607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8867718-CD75-412A-9F9F-87D10151E4C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159CAAD-613C-472B-93CE-30E7D8A09D2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96720" y="4258800"/>
            <a:ext cx="63612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20879A-EFFC-4EFE-9F87-6A7E37271EB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CI Powerpoint 2ba"/>
          <p:cNvPicPr/>
          <p:nvPr/>
        </p:nvPicPr>
        <p:blipFill>
          <a:blip r:embed="rId2"/>
          <a:stretch/>
        </p:blipFill>
        <p:spPr>
          <a:xfrm>
            <a:off x="-181080" y="-52560"/>
            <a:ext cx="9506160" cy="6937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MCI Powerpoint 2ba"/>
          <p:cNvPicPr/>
          <p:nvPr/>
        </p:nvPicPr>
        <p:blipFill>
          <a:blip r:embed="rId2"/>
          <a:stretch/>
        </p:blipFill>
        <p:spPr>
          <a:xfrm>
            <a:off x="0" y="-79200"/>
            <a:ext cx="9505800" cy="69372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8172360" y="566100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ccesscentre@healthforceontario.ca" TargetMode="External"/><Relationship Id="rId2" Type="http://schemas.openxmlformats.org/officeDocument/2006/relationships/hyperlink" Target="http://www.healthforceontario.ca/Jobs/AccessCentre.asp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ntarioimmigration.ca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35344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357300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</a:rPr>
              <a:t>Helping Internationally Trained Individuals on their Profession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C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ovember 15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566100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580000" y="5518080"/>
            <a:ext cx="356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3276720" y="1901880"/>
            <a:ext cx="2663640" cy="2147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9"/>
          <p:cNvSpPr txBox="1"/>
          <p:nvPr/>
        </p:nvSpPr>
        <p:spPr>
          <a:xfrm>
            <a:off x="1187280" y="476280"/>
            <a:ext cx="69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lobal Experience Ontario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The Trades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pic>
        <p:nvPicPr>
          <p:cNvPr id="121" name="Picture 5" descr="MP900185001[1]"/>
          <p:cNvPicPr/>
          <p:nvPr/>
        </p:nvPicPr>
        <p:blipFill>
          <a:blip r:embed="rId1"/>
          <a:stretch/>
        </p:blipFill>
        <p:spPr>
          <a:xfrm>
            <a:off x="5970600" y="118728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MC900197573[1]"/>
          <p:cNvPicPr/>
          <p:nvPr/>
        </p:nvPicPr>
        <p:blipFill>
          <a:blip r:embed="rId2"/>
          <a:stretch/>
        </p:blipFill>
        <p:spPr>
          <a:xfrm>
            <a:off x="127080" y="1255680"/>
            <a:ext cx="2502000" cy="3468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MC900197791[1]"/>
          <p:cNvPicPr/>
          <p:nvPr/>
        </p:nvPicPr>
        <p:blipFill>
          <a:blip r:embed="rId3"/>
          <a:stretch/>
        </p:blipFill>
        <p:spPr>
          <a:xfrm>
            <a:off x="3583080" y="2698920"/>
            <a:ext cx="1950840" cy="2411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Trades in Ontario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re are over 150 trades in Ontario. Trades can be Compulsory or Volu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urrently 22 trades are Compulsory by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es compulsory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You must obtain a Certificate of Qualification to practice in a compulsory trade i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es voluntary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- You don’t need to be certified, but certification may give you many bene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3b79c5"/>
                </a:solidFill>
                <a:latin typeface="Arial"/>
              </a:rPr>
              <a:t>The 22 Compulsory Trades</a:t>
            </a:r>
            <a:endParaRPr b="0" lang="en-US" sz="3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3960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lectrician: Construction and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lectrician: Domestic and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Mobile Crane Operator Bran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Mobile Crane Operator Bran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Tower Crane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l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frigeration and Air Conditioning Systems Mech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idential Air Conditioning Systems Mech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idential (low-rise) Sheet Metal Ins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heet Metal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11280" y="0"/>
            <a:ext cx="8229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68360" y="1197000"/>
            <a:ext cx="418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48320" y="1125360"/>
            <a:ext cx="44956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eamf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ignment and Brakes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 Body and Collision Damage Repairer Bran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 Body Repairer Bran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motive Electronic Accessory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motive Servic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uel and Electrical Systems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irsty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torcycl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ansmission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uck and Coach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uck Trailer Servic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3b79c5"/>
                </a:solidFill>
                <a:latin typeface="Arial"/>
              </a:rPr>
              <a:t>How to get started in the trades:</a:t>
            </a:r>
            <a:r>
              <a:rPr b="0" i="1" lang="en-CA" sz="4000" spc="-1" strike="noStrike">
                <a:solidFill>
                  <a:srgbClr val="3b79c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18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two pathways for working in the trades in Ontar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f you have already worked in a trade, you can apply to write a Certificate of Qualification Exam which will enable you to work in a compulsory trade. It may help if you gather your documentation before you arrive in Ont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pprentice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enticeship is a hands-on training program for people who want to work in a skilled trade. About 90 per cent of apprenticeship training is provided in the workplace by employers.  Other training may be given in a classroom by a community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Zapf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25 apprenticeship offices across Ontario where you can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findhelp.ca/mtcu/appoff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mployment Ontario can help y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cide which pathway is best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get your credentials ass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pply to become certified, upgrade your skills, or get into apprentice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5873760" cy="1239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300720" y="836640"/>
            <a:ext cx="2448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ontario.ca/em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r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1-800-387-56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8147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of Trades will be a regulatory body for the skilled trades in On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will regu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at is required to work in each of the trades in O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o can be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fessional conduct and ethical standard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79280" y="0"/>
            <a:ext cx="867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b79c5"/>
                </a:solidFill>
                <a:latin typeface="Arial"/>
              </a:rPr>
              <a:t>The New College of Trades</a:t>
            </a:r>
            <a:r>
              <a:rPr b="1" lang="en-CA" sz="2000" spc="-1" strike="noStrike">
                <a:solidFill>
                  <a:srgbClr val="3b79c5"/>
                </a:solidFill>
                <a:latin typeface="Arial"/>
              </a:rPr>
              <a:t> </a:t>
            </a:r>
            <a:r>
              <a:rPr b="1" lang="en-CA" sz="4000" spc="-1" strike="noStrike">
                <a:solidFill>
                  <a:srgbClr val="3b79c5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6745320" cy="1181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39640" y="4581360"/>
            <a:ext cx="8291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EO will provide information about and referrals to the compulsory trades as part of its man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of Trades website: http://www.collegeoftrades.ca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Career Maps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84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reer Maps explain in detail every step of the registration proces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to apply to be license and which credential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ork experience requirements including Canadian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nglish/French languag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ustry trends and labour market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icensing fe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long the process may t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 present, GEO develops and updates over 40 career maps for regulated professions and trades in partnership with regulatory bod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reer Maps are available online at: 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http://www.ontarioimmigration.ca/en/ge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"/>
          <p:cNvPicPr/>
          <p:nvPr/>
        </p:nvPicPr>
        <p:blipFill>
          <a:blip r:embed="rId1"/>
          <a:srcRect l="0" t="0" r="9112" b="0"/>
          <a:stretch/>
        </p:blipFill>
        <p:spPr>
          <a:xfrm>
            <a:off x="7667640" y="1628640"/>
            <a:ext cx="1085760" cy="18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"/>
          <p:cNvPicPr/>
          <p:nvPr/>
        </p:nvPicPr>
        <p:blipFill>
          <a:blip r:embed="rId2"/>
          <a:stretch/>
        </p:blipFill>
        <p:spPr>
          <a:xfrm>
            <a:off x="7524720" y="3933720"/>
            <a:ext cx="1619280" cy="1270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8675640" y="6021360"/>
            <a:ext cx="46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From Licensing to Employmen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718160" cy="3446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rochure_PNP"/>
          <p:cNvPicPr/>
          <p:nvPr/>
        </p:nvPicPr>
        <p:blipFill>
          <a:blip r:embed="rId1"/>
          <a:stretch/>
        </p:blipFill>
        <p:spPr>
          <a:xfrm rot="20400000">
            <a:off x="1476360" y="1773000"/>
            <a:ext cx="1724040" cy="4030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5157720"/>
            <a:ext cx="7417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187280" y="1746360"/>
            <a:ext cx="68407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176040" indent="-17604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rochure_Bridges"/>
          <p:cNvPicPr/>
          <p:nvPr/>
        </p:nvPicPr>
        <p:blipFill>
          <a:blip r:embed="rId2"/>
          <a:stretch/>
        </p:blipFill>
        <p:spPr>
          <a:xfrm rot="21000000">
            <a:off x="3058920" y="1341000"/>
            <a:ext cx="1722240" cy="402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rcRect l="119" t="0" r="0" b="0"/>
          <a:stretch/>
        </p:blipFill>
        <p:spPr>
          <a:xfrm rot="600000">
            <a:off x="4427640" y="1341000"/>
            <a:ext cx="1806480" cy="415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brochure_Languages"/>
          <p:cNvPicPr/>
          <p:nvPr/>
        </p:nvPicPr>
        <p:blipFill>
          <a:blip r:embed="rId4"/>
          <a:stretch/>
        </p:blipFill>
        <p:spPr>
          <a:xfrm rot="1200000">
            <a:off x="6011640" y="1628640"/>
            <a:ext cx="1724040" cy="4256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Program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8675640" y="6021360"/>
            <a:ext cx="46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3b79c5"/>
                </a:solidFill>
                <a:latin typeface="Arial"/>
              </a:rPr>
              <a:t>Bridge Training Programs in Ontario</a:t>
            </a:r>
            <a:endParaRPr b="0" lang="en-US" sz="3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7127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49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What do Ontario’s Bridge Training Programs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vide training and opportunities to help internationally trai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ividuals get registered to work in their profess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r to facilitate systemic 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ighly-skilled newcomers get jobs in their area of expertise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idebar-reg_04"/>
          <p:cNvPicPr/>
          <p:nvPr/>
        </p:nvPicPr>
        <p:blipFill>
          <a:blip r:embed="rId1"/>
          <a:stretch/>
        </p:blipFill>
        <p:spPr>
          <a:xfrm>
            <a:off x="900000" y="2565360"/>
            <a:ext cx="1166760" cy="129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Vision"/>
          <p:cNvPicPr/>
          <p:nvPr/>
        </p:nvPicPr>
        <p:blipFill>
          <a:blip r:embed="rId2"/>
          <a:stretch/>
        </p:blipFill>
        <p:spPr>
          <a:xfrm>
            <a:off x="6732720" y="692280"/>
            <a:ext cx="1488960" cy="1190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3348000" y="2276640"/>
            <a:ext cx="5594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rograms may 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cademic and/or skills assess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linical or workplace experi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kills training or targeted academic training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eparation for a licence or certification exam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ccupation-specific language 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ividualized learning plans to address specific training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50920" y="4149720"/>
            <a:ext cx="640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tn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mployers, post-secondary institutions, occupational regulatory bodies, community organizations and other levels of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Physio_main"/>
          <p:cNvPicPr/>
          <p:nvPr/>
        </p:nvPicPr>
        <p:blipFill>
          <a:blip r:embed="rId3"/>
          <a:stretch/>
        </p:blipFill>
        <p:spPr>
          <a:xfrm>
            <a:off x="7236000" y="4508640"/>
            <a:ext cx="1584000" cy="6476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1258920" y="4941720"/>
            <a:ext cx="648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citizenship.gov.on.ca/english/index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tp://www.ontarioimmigration.ca/en/working/OI_BRIDG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Internship and Mentorship Programs for ITIs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179280" y="1341360"/>
            <a:ext cx="87854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ntoring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400" spc="-1" strike="noStrike">
                <a:solidFill>
                  <a:srgbClr val="ff3300"/>
                </a:solidFill>
                <a:latin typeface="Arial"/>
              </a:rPr>
              <a:t>www.thementoringpartnership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entoring bring together recent skilled immigrants and established professionals in occupation-specific mentoring relationshi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entors help break down employment barriers by offering industry-specific advice and conta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udies show that newcomers who go through the mentoring program earn more than their counterparts who do not participate in the mentoring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ntario Public Service (OPS) Internship Program for Internationally Trained Individuals (IT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www.careerbridge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he OPS Internship Program for ITIs is designed specifically for professional newcomers to Ontario, so that they can earn valuable Canadian work experience in their professional fields within the O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he OPS administers the program in partnership with the Career Edge Organization through their Career Bridge Program which serves newcomers across the provi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203640" y="4941720"/>
            <a:ext cx="1847880" cy="600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6156360" y="4797360"/>
            <a:ext cx="2352600" cy="723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2008_New_Ministry_Trillium_Logo"/>
          <p:cNvPicPr/>
          <p:nvPr/>
        </p:nvPicPr>
        <p:blipFill>
          <a:blip r:embed="rId3"/>
          <a:stretch/>
        </p:blipFill>
        <p:spPr>
          <a:xfrm>
            <a:off x="539640" y="4869000"/>
            <a:ext cx="1943280" cy="637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8459640" y="5950080"/>
            <a:ext cx="46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820000" y="6021360"/>
            <a:ext cx="3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8560" y="1628640"/>
            <a:ext cx="8785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Global Experience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napshot of Immigration to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hallenges Newcomers Face When Settling i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4 Non-Health Regulated Prof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Health Regulated and Other Prof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22 Compulsory T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areer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he Licens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rograms an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2997360"/>
            <a:ext cx="7417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fessional immigrant networks (PINs) are organized, volunteer-run member-based associations or networks created by and for immigrant profession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INs website improves the visibility of these networks and to makes it easier for immigrants, employers and other stakeholders to connect with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Arial"/>
              </a:rPr>
              <a:t>www.networksforimmigrant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Features of the website include a searchable directory of networks, communication tools, a resource library and PINs success sto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ctivities of PINs include networking events, mentoring, information sessions, professional development opportunities such as workshops, speaker events and training and connections to employment opportun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128000" cy="2413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b79c5"/>
                </a:solidFill>
                <a:latin typeface="Arial"/>
              </a:rPr>
              <a:t>Employment</a:t>
            </a:r>
            <a:endParaRPr b="0" lang="en-US" sz="4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ntact Employment Ontario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www.ontario.ca/employmen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r 1-800-387-5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ume writing, job interview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twork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kills assessment, training and related jo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Get certified to work in a skilled trade and learn about apprentice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inistry of Training, Colleges and Universities/ Employment Ontario: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ttp://www.findhelp.ca/mtcu/appoff.htm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1311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b79c5"/>
                </a:solidFill>
                <a:latin typeface="Arial"/>
              </a:rPr>
              <a:t>OntarioImmigration.ca</a:t>
            </a:r>
            <a:endParaRPr b="0" lang="en-US" sz="36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0880" y="1427040"/>
            <a:ext cx="62643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unched in 2006, </a:t>
            </a:r>
            <a:r>
              <a:rPr b="1" lang="en-CA" sz="2800" spc="-1" strike="noStrike" u="sng">
                <a:solidFill>
                  <a:srgbClr val="3b79c5"/>
                </a:solidFill>
                <a:uFillTx/>
                <a:latin typeface="Arial"/>
              </a:rPr>
              <a:t>OntarioImmigration.c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s the province’s web-based information resource for prospective and landed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211880" y="1557360"/>
            <a:ext cx="1702080" cy="3527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8532720" y="5950080"/>
            <a:ext cx="611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Referral Supports for </a:t>
            </a:r>
            <a:br>
              <a:rPr sz="3200"/>
            </a:b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Internationally Trained Individuals</a:t>
            </a:r>
            <a:br>
              <a:rPr sz="3200"/>
            </a:b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9640" y="1628640"/>
          <a:ext cx="8425080" cy="3703680"/>
        </p:xfrm>
        <a:graphic>
          <a:graphicData uri="http://schemas.openxmlformats.org/drawingml/2006/table">
            <a:tbl>
              <a:tblPr/>
              <a:tblGrid>
                <a:gridCol w="2808360"/>
                <a:gridCol w="1944720"/>
                <a:gridCol w="3672000"/>
              </a:tblGrid>
              <a:tr h="370368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 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Instit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ges and Univers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 Agen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ario Public Libra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Experience On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ing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orship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ship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Language Train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 Immigration Information Online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ential Assessment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Force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cial Nominee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Immigrant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Regulatory Bo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How To Contact GEO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2565000"/>
            <a:ext cx="7201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hone us at 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1-866-670-4094 or 416-327-96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TY: 416-327-9710 or 1866-388-22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-mail us at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GEO@ontario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work"/>
          <p:cNvPicPr/>
          <p:nvPr/>
        </p:nvPicPr>
        <p:blipFill>
          <a:blip r:embed="rId1"/>
          <a:stretch/>
        </p:blipFill>
        <p:spPr>
          <a:xfrm>
            <a:off x="2771640" y="1557360"/>
            <a:ext cx="3662640" cy="7556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8459640" y="5950080"/>
            <a:ext cx="505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b79c5"/>
                </a:solidFill>
                <a:latin typeface="Arial"/>
              </a:rPr>
              <a:t>Immigration – Ontario Context</a:t>
            </a:r>
            <a:endParaRPr b="0" lang="en-US" sz="36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3827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Between 2007 and 20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546,601 immigrants came to Ontario from more than 200 count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early 78% intended to settle in the Greater Toronto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73% indicated language ability in at least one of Canada’s two official langu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076720" y="4724280"/>
            <a:ext cx="35388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nada and Ontario receive immigrants from more than 200 countries, demonstrating a unique breadth of diversity among all the major immigrant accepting count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0920" y="53737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Source: Citizenship and Immigr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hart 16" descr=""/>
          <p:cNvPicPr/>
          <p:nvPr/>
        </p:nvPicPr>
        <p:blipFill>
          <a:blip r:embed="rId1"/>
          <a:stretch/>
        </p:blipFill>
        <p:spPr>
          <a:xfrm>
            <a:off x="4797360" y="987480"/>
            <a:ext cx="4102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5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Global Experience Ontario (GEO)             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39640" y="1267920"/>
            <a:ext cx="6119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EO is an Access Centre which provides information and assistance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to become registered to work in 14 non-health regulated profess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ternship and mentorship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EO ser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ternationally trained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akeholders who work with internationally trained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anguage instru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ocial service and employment wo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ommunity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Job Fairs and con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"/>
          <p:cNvPicPr/>
          <p:nvPr/>
        </p:nvPicPr>
        <p:blipFill>
          <a:blip r:embed="rId1"/>
          <a:srcRect l="119" t="0" r="0" b="0"/>
          <a:stretch/>
        </p:blipFill>
        <p:spPr>
          <a:xfrm>
            <a:off x="179280" y="1125360"/>
            <a:ext cx="19702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388360" y="6021360"/>
            <a:ext cx="10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800" spc="-1" strike="noStrike">
                <a:solidFill>
                  <a:srgbClr val="538acd"/>
                </a:solidFill>
                <a:latin typeface="Arial"/>
              </a:rPr>
              <a:t>The</a:t>
            </a:r>
            <a:r>
              <a:rPr b="1" lang="en-CA" sz="2400" spc="-1" strike="noStrike">
                <a:solidFill>
                  <a:srgbClr val="538acd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538acd"/>
                </a:solidFill>
                <a:latin typeface="Arial"/>
              </a:rPr>
              <a:t>14 Non-Health Regulated Professions Include: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18608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.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. Certified Engineering Technic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d Techn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. Certified Gener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. Certified Management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. Chartered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. Early Childhoo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7.  Fore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9806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8.  Land Surve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9.  Law (including Paraleg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0. Profession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1. Professional Geo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2. Social Work and Social  Servic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3.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4. Veterinary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Challenges Faced by Internationally Trained Individuals (ITIs)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ining Canadian Work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employment in their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eed to upgrade their language ability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y in building a network or profession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during the professional licen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information about how to get licensed in their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y in providing original documents such as transcripts and degree from their country of origin on arr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information about alternative careers while pursuing their lic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ing examination/licensing/registration fe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8820000" y="6021360"/>
            <a:ext cx="3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Health-Regulated</a:t>
            </a:r>
            <a:r>
              <a:rPr b="0" lang="en-CA" sz="2800" spc="-1" strike="noStrike">
                <a:solidFill>
                  <a:srgbClr val="3b79c5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Professions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Health Regulated Profes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ealthForceOntario (HFO) is an Access Centre that helps Internationally Educated Health Regulated Professionals with free information, advice, and support on the licensing process to practice in Ontar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tact HF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63 Queen Street East, 2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Floor, Toronto, O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ephone: 1-800-596-40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C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cesscentre@healthforceontario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CA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ealthforceontario.ca/Jobs/AccessCentre.asp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Licensing Process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gulatory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neral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nguag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cademic credential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al and/or Canadian work exper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ation and/or practise 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dditional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es and financi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532720" y="6021360"/>
            <a:ext cx="6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Strategies to help internationally trained individuals along their path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ay connected to the regulatory body or related professional associ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heck regular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gulatory body and related professional/networking web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ntarioimmigration.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dentify services, programs and tools that can help y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ridge Tr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glish and French as a Second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Occupational Specific Language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entoring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ternship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fessional Immigrant Networks (P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Volun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ind a Career Map, fact sheets or other useful gu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unicipal Immigration Port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ontarioimmigration.ca/en/living/OI_HOW_LIVE_CITI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5:43:55Z</dcterms:created>
  <dc:creator>tullomo</dc:creator>
  <dc:description/>
  <dc:language>en-US</dc:language>
  <cp:lastModifiedBy>Levin, Leah (MCI)</cp:lastModifiedBy>
  <cp:lastPrinted>2012-11-07T21:36:36Z</cp:lastPrinted>
  <dcterms:modified xsi:type="dcterms:W3CDTF">2012-11-16T19:09:05Z</dcterms:modified>
  <cp:revision>545</cp:revision>
  <dc:subject/>
  <dc:title>Slide 1</dc:title>
</cp:coreProperties>
</file>